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png" ContentType="image/png"/>
  <Override PartName="/ppt/media/image3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C67C-C041-4EC7-B87B-C0AF866E8D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53EE-7AD1-47F4-B214-23C32F97A5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874F-2DB0-4FB4-B9B4-BA165CFC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6105-FCE4-444F-9E22-C57534FE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C56-0964-4880-B892-E3019E29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E4F-0C40-42BE-84F6-3E80BCE1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DF92-2F15-45EB-A7D1-AC031E3A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ECA3-48B1-4FBE-839C-38215754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4169-946C-4CD5-9424-D65F46BB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002C-8932-42C2-9FF6-6140CB72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DEDF-7C72-4806-A166-AC9700F0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C1CB-AC73-4161-8F51-495533B2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2255-23F1-40E0-9B4A-2A113574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208-5584-4EEC-9163-34D3AEC9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8541-D3A1-4B4E-A33D-7080BCA7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011A-D624-4FC7-AC01-E071D4B3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43FA-D2C2-4C8F-AE16-6CEBD47E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24A3-A42E-4D93-97A4-FAA86D3D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177A-CCB6-426B-9785-E37FB809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D810F-BC74-442D-99C6-8D1EF94E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A1D0-6DEC-4307-AAED-82E25508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D4AFE-A84D-4751-A28C-A43129E2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647C-ABA7-4FD1-972F-72FBC16C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97878-93BD-4888-9DEC-B195EC4A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FD32-6B15-4CE1-8493-E7CBBD1D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4F559-F2E6-4A96-942B-92B36F48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86CDF-5637-4A2A-9B67-8E1322C2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B4BE9-0A96-41B5-84C9-B52D77AD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E2004-B1E0-405B-B315-BFA507B8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CB5C-09D8-4057-BD05-E4C43A26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44CF9-2AD2-4427-9CD2-08FCAF5B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667D5-964C-4419-8EE4-08999552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DCE42-B8E2-4773-B42D-F6276962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77966-234A-460C-976B-C6619FFD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1DFA4-F284-43E7-86B4-43D70FD3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FDE-A7EA-4998-BB10-629FA7A7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F1407-B3A2-4CB7-A6BB-06E56640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89559-E6CF-42C7-A5B7-60F2D160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C3F94-E163-4A2D-A450-B680F09F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BF5B7-D367-40D8-9458-953849DB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39CA9-6B49-4753-92C6-258C46C6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36434-8831-4A33-BC93-88FCB7B8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51363-EB7C-4404-8F82-FEE915B4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63B96-B19C-4F17-ACB8-65193C3C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CBDD9-675A-4D0D-8F3B-0B34BA8A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A3DA-9F23-47DF-AC47-8902E8CE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C7E-7AE4-4838-BF74-7CD38502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CE0-21D0-4EFE-8E16-C3F00F7D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7626-E25F-4667-BAD8-6F1C5AB5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E48-96FE-442B-8154-9CC3F08C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766E-3AA4-4EDC-8AF8-E5498A8C72B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99DD-85FC-41D5-9767-454A10AD321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9538-FDEE-4F34-A41F-F9DE802F419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F26E-51AF-43DD-BE40-2FB73BDCF2C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1828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6560" y="704880"/>
            <a:ext cx="70074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Не ныряйте в воду в незнакомых местах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Рисунок 4" descr="http://suzdalregion.ru/files/sfera_dejtelnosti/go_chs/a1b886169910beab24fa6dfaf023cf62.jpg"/>
          <p:cNvPicPr/>
          <p:nvPr/>
        </p:nvPicPr>
        <p:blipFill>
          <a:blip r:embed="rId1"/>
          <a:stretch/>
        </p:blipFill>
        <p:spPr>
          <a:xfrm>
            <a:off x="539640" y="1574640"/>
            <a:ext cx="7920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http://lyceum2.ucoz.ru/_si/0/74989559.jpg"/>
          <p:cNvPicPr/>
          <p:nvPr/>
        </p:nvPicPr>
        <p:blipFill>
          <a:blip r:embed="rId1"/>
          <a:stretch/>
        </p:blipFill>
        <p:spPr>
          <a:xfrm>
            <a:off x="108000" y="404640"/>
            <a:ext cx="8640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5000400" cy="5429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5429160" y="857160"/>
            <a:ext cx="35006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7120" y="7142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 раскачивайте лодк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69296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Не купайтесь в запрещённых местах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2000160" y="1714680"/>
            <a:ext cx="58579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Не устраивайте игр вблизи вод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6929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Не купайтесь в нетрезвом вид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1214280" y="1500120"/>
            <a:ext cx="6929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Не прыгайте в воду с лодок и катер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5000400" cy="4429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5500800" y="1714680"/>
            <a:ext cx="3286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рещено плавание в судоходных местах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3786120" y="857160"/>
            <a:ext cx="4929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Купайтесь только в разрешённых места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071720" y="2000160"/>
            <a:ext cx="7000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Изучите правила пребывания на водоём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Объект 3" descr="http://s3.netangels.ru/inova-media/cache/cd/ce/92/0c/93/14/cdce920c9314b91e4a6ee9919b971ca0.jpg"/>
          <p:cNvPicPr/>
          <p:nvPr/>
        </p:nvPicPr>
        <p:blipFill>
          <a:blip r:embed="rId1"/>
          <a:stretch/>
        </p:blipFill>
        <p:spPr>
          <a:xfrm>
            <a:off x="1030320" y="1935000"/>
            <a:ext cx="70833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е купайтесь у крутых обрывистых берегов, в заболоченных местах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69292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Объект 3" descr="http://lyceum2.ucoz.ru/_si/0/51726603.jpg"/>
          <p:cNvPicPr/>
          <p:nvPr/>
        </p:nvPicPr>
        <p:blipFill>
          <a:blip r:embed="rId1"/>
          <a:stretch/>
        </p:blipFill>
        <p:spPr>
          <a:xfrm>
            <a:off x="539640" y="692280"/>
            <a:ext cx="82296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 переохлаждайтесь и не перегревайтес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57200" y="2143080"/>
            <a:ext cx="67867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 купайтесь в штормовую погод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6858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 подплывайте к проходящим суда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928800" y="1714680"/>
            <a:ext cx="73580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 заплывать за буй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4857840" cy="4143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5214960" y="1857240"/>
            <a:ext cx="37861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 играйте на высоких берега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571760" y="2000160"/>
            <a:ext cx="65005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 заплывайте далеко на надувных плавсредства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143000" y="1714680"/>
            <a:ext cx="6786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Объект 3" descr="http://lyceum2.ucoz.ru/_si/0/89057840.jpg"/>
          <p:cNvPicPr/>
          <p:nvPr/>
        </p:nvPicPr>
        <p:blipFill>
          <a:blip r:embed="rId1"/>
          <a:stretch/>
        </p:blipFill>
        <p:spPr>
          <a:xfrm>
            <a:off x="468360" y="620640"/>
            <a:ext cx="843588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 плавайте на самодельных плота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67863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 купайтесь рядом с очистными трубам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69296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льзя баловаться на вод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70005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5:21:01Z</dcterms:created>
  <dc:creator>Admin</dc:creator>
  <dc:description/>
  <dc:language>en-US</dc:language>
  <cp:lastModifiedBy>user</cp:lastModifiedBy>
  <dcterms:modified xsi:type="dcterms:W3CDTF">2019-03-23T14:47:10Z</dcterms:modified>
  <cp:revision>27</cp:revision>
  <dc:subject/>
  <dc:title>Слайд 1</dc:title>
</cp:coreProperties>
</file>